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C98-C005-4651-99A1-D746C4EB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23F-233C-43DC-ACA8-548423D6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3A4-89DC-4366-ABD7-A2187C1C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05F-679A-4251-B4AA-4EE8FE0E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871-9665-4892-A159-AFD7B280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F79-5D92-4630-8481-8E1CFD9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7F4-3785-4C47-9B55-A67C423F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FFB-E48D-4E1D-816E-BFCB2967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BFC-876D-4C0E-A6BC-7D7D8D2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80D-1CC7-443F-ABEE-2FF9B6B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511-D00F-4032-8183-CE2D181E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997-46E5-44AD-B796-E21D579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86D2-EADE-4A4E-BB5E-EB2418093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 Exact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ase-Control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181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37339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4648320"/>
            <a:ext cx="6705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239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01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39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39152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2378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7391520" cy="121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91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21720" y="1447920"/>
            <a:ext cx="2444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mall s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16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84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97180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19320" y="4419720"/>
            <a:ext cx="4038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038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403848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22860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9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3600" y="3200400"/>
            <a:ext cx="1905120" cy="99072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438280" y="4724280"/>
            <a:ext cx="3962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3:10:54Z</dcterms:modified>
  <cp:revision>41</cp:revision>
  <dc:subject/>
  <dc:title>PowerPoint Presentation</dc:title>
</cp:coreProperties>
</file>